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image4.jpeg" ContentType="image/jpeg"/>
  <Override PartName="/ppt/media/image5.gif" ContentType="image/gif"/>
  <Override PartName="/ppt/media/image6.wmf" ContentType="image/x-wmf"/>
  <Override PartName="/ppt/media/image7.png" ContentType="image/png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2852-35AE-4E3B-9EE4-107877F08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0781-D661-4FCB-B8FC-582C72BEB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5A35-147D-44C7-8998-EF68EAB91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2604-7B6C-41F7-9421-D8162318A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5C620-3FC8-4B97-8382-8A20FEE59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ABDAC-57FB-4A11-8D8B-F0D2716AF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DE323-413B-49C4-A578-7DCFEBFF7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C25F1-1AA3-4FFE-B74D-B9B1F25AF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BD737-080F-4989-9383-C832E666E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2C1CE-1C1E-4564-9312-0E978CE7A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4C050-E0E4-403A-9CA7-80BEA1E0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681A-5725-4DD6-BF1E-B1C948E42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C9F21-7D5D-4707-8D84-08712B51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D8564-CDB1-41FF-912B-90A450A83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D0F32-CF57-431B-B624-0EC4E90E7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E0172-E3A9-473F-B983-1BE6D5989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53F18-F8CD-4C33-BE7E-C976A1B6B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D1B1-5C3B-454B-8FDC-38B1CECED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0465-2347-4669-85F8-B7996D879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E018-80A6-4502-B8CC-DB8FF4620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8B93-0D83-41AC-8420-BD213CDB5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5A68-726B-4E86-8F62-29122007D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C580-B7E5-4D08-8642-C308D4EC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F0D7-3F6F-4621-A8F1-686B7756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45502-66AB-4AE9-B5D8-657A2B52518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CA675-8642-4EDA-9B07-AC1800D2629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666600"/>
                </a:solidFill>
                <a:latin typeface="Times New Roman"/>
              </a:rPr>
              <a:t>Моль — единица 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666600"/>
                </a:solidFill>
                <a:latin typeface="Times New Roman"/>
              </a:rPr>
              <a:t>количества веществ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 rot="1190400">
            <a:off x="6588000" y="4292640"/>
            <a:ext cx="216072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666600"/>
                </a:solidFill>
                <a:uFillTx/>
                <a:latin typeface="Times New Roman"/>
              </a:rPr>
              <a:t>Молярная масса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00"/>
                </a:solidFill>
                <a:latin typeface="Times New Roman"/>
              </a:rPr>
              <a:t>М = m/n</a:t>
            </a:r>
            <a:r>
              <a:rPr b="0" i="1" lang="en-US" sz="6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2277720" y="2781000"/>
            <a:ext cx="4730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1" i="1" lang="ru-RU" sz="6600" spc="-1" strike="noStrike">
                <a:solidFill>
                  <a:srgbClr val="ff0000"/>
                </a:solidFill>
                <a:latin typeface="Times New Roman"/>
              </a:rPr>
              <a:t>М</a:t>
            </a: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]</a:t>
            </a:r>
            <a:r>
              <a:rPr b="1" i="1" lang="ru-RU" sz="6600" spc="-1" strike="noStrike">
                <a:solidFill>
                  <a:srgbClr val="ff0000"/>
                </a:solidFill>
                <a:latin typeface="Times New Roman"/>
              </a:rPr>
              <a:t> – г/моль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9640" y="4221000"/>
            <a:ext cx="813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Молярная масса по значению совпадает с относительной атомной или молекулярной массо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666600"/>
                </a:solidFill>
                <a:uFillTx/>
                <a:latin typeface="Times New Roman"/>
              </a:rPr>
              <a:t>Основные формулы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842920" y="1599840"/>
            <a:ext cx="4537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nl-NL" sz="6000" spc="-1" strike="noStrike">
                <a:solidFill>
                  <a:srgbClr val="ff0000"/>
                </a:solidFill>
                <a:latin typeface="Times New Roman"/>
              </a:rPr>
              <a:t>m = n ∙ M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6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i="1" lang="nl-NL" sz="6000" spc="-1" strike="noStrike">
                <a:solidFill>
                  <a:srgbClr val="ff0000"/>
                </a:solidFill>
                <a:latin typeface="Times New Roman"/>
              </a:rPr>
              <a:t>n = m/M   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i="1" lang="ru-RU" sz="6000" spc="-1" strike="noStrike">
                <a:solidFill>
                  <a:srgbClr val="ff0000"/>
                </a:solidFill>
                <a:latin typeface="Times New Roman"/>
              </a:rPr>
              <a:t>М</a:t>
            </a:r>
            <a:r>
              <a:rPr b="1" i="1" lang="nl-NL" sz="6000" spc="-1" strike="noStrike">
                <a:solidFill>
                  <a:srgbClr val="ff0000"/>
                </a:solidFill>
                <a:latin typeface="Times New Roman"/>
              </a:rPr>
              <a:t> = m/n 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i="1" lang="nl-NL" sz="6000" spc="-1" strike="noStrike">
                <a:solidFill>
                  <a:srgbClr val="ff0000"/>
                </a:solidFill>
                <a:latin typeface="Times New Roman"/>
              </a:rPr>
              <a:t>n = N/N</a:t>
            </a:r>
            <a:r>
              <a:rPr b="1" i="1" lang="nl-NL" sz="6000" spc="-1" strike="noStrike" baseline="-25000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6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i="1" lang="ru-RU" sz="6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nl-NL" sz="6000" spc="-1" strike="noStrike">
                <a:solidFill>
                  <a:srgbClr val="ff0000"/>
                </a:solidFill>
                <a:latin typeface="Times New Roman"/>
              </a:rPr>
              <a:t>N = n ∙ N</a:t>
            </a:r>
            <a:r>
              <a:rPr b="1" i="1" lang="nl-NL" sz="6000" spc="-1" strike="noStrike" baseline="-25000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ru-RU" sz="60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666600"/>
                </a:solidFill>
                <a:uFillTx/>
                <a:latin typeface="Times New Roman"/>
              </a:rPr>
              <a:t>Подумай!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539640" y="1628640"/>
          <a:ext cx="8352000" cy="4778640"/>
        </p:xfrm>
        <a:graphic>
          <a:graphicData uri="http://schemas.openxmlformats.org/drawingml/2006/table">
            <a:tbl>
              <a:tblPr/>
              <a:tblGrid>
                <a:gridCol w="1554120"/>
                <a:gridCol w="1189080"/>
                <a:gridCol w="1217880"/>
                <a:gridCol w="1223640"/>
                <a:gridCol w="1224000"/>
                <a:gridCol w="194328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ул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/мо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ам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астиц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1" i="1" lang="en-US" sz="32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</a:t>
                      </a:r>
                      <a:r>
                        <a:rPr b="1" i="1" lang="en-US" sz="32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Cl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</a:t>
                      </a:r>
                      <a:r>
                        <a:rPr b="1" i="1" lang="en-US" sz="32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1" i="1" lang="en-US" sz="32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04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0 </a:t>
                      </a:r>
                      <a:r>
                        <a:rPr b="1" i="1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H</a:t>
                      </a:r>
                      <a:r>
                        <a:rPr b="1" i="1" lang="en-US" sz="32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68360" y="4076280"/>
            <a:ext cx="8424720" cy="18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ru-RU" sz="2800" spc="-1" strike="noStrike" u="sng">
                <a:solidFill>
                  <a:srgbClr val="000066"/>
                </a:solidFill>
                <a:uFillTx/>
                <a:latin typeface="Verdana"/>
              </a:rPr>
              <a:t>Реш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масса (ΝaCl)= 58,5 (г/моль)∙10 (моль)=585 грамм</a:t>
            </a:r>
            <a:r>
              <a:rPr b="1" i="1" lang="ru-RU" sz="2800" spc="-1" strike="noStrike">
                <a:solidFill>
                  <a:srgbClr val="3024d2"/>
                </a:solidFill>
                <a:latin typeface="Times New Roman"/>
              </a:rPr>
              <a:t>.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"/>
          <p:cNvSpPr/>
          <p:nvPr/>
        </p:nvSpPr>
        <p:spPr>
          <a:xfrm>
            <a:off x="755640" y="1772280"/>
            <a:ext cx="7993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Восьмиклассница Света зашла в магази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и попросила продавщицу продать ей  10  молей поваренной сол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Что ответила Свете продавщица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71040" y="307800"/>
            <a:ext cx="250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666600"/>
                </a:solidFill>
                <a:uFillTx/>
                <a:latin typeface="Times New Roman"/>
              </a:rPr>
              <a:t>Решим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666600"/>
                </a:solidFill>
                <a:uFillTx/>
                <a:latin typeface="Times New Roman"/>
              </a:rPr>
              <a:t>Закон Авогадро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22" name="avogadro" descr="Амедео Авогадро"/>
          <p:cNvPicPr/>
          <p:nvPr/>
        </p:nvPicPr>
        <p:blipFill>
          <a:blip r:embed="rId1"/>
          <a:stretch/>
        </p:blipFill>
        <p:spPr>
          <a:xfrm>
            <a:off x="684360" y="1628640"/>
            <a:ext cx="3217680" cy="39020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140360" y="1989000"/>
            <a:ext cx="4681440" cy="40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тальянский физик и химик Амедео Авогадро по образованию был юристом, а математику, физику и химию изучил самостоятельно и настолько хорошо, что преподавал их в университет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181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году Амедео Авогадро открыл закон, носящий его имя. Согласно закону Авогадро,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в одинаковых объемах любых газов при одинаковых температуре и давлении содержится одинаковое число молекул. 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116360" y="5733360"/>
            <a:ext cx="278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Амедео АВОГАДРО 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(9.VIII. 1776 - 9.VII .185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2195640" y="3141720"/>
            <a:ext cx="6573600" cy="33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00"/>
                </a:solidFill>
                <a:latin typeface="Times New Roman"/>
              </a:rPr>
              <a:t>Vм=22,4 л/моль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00"/>
                </a:solidFill>
                <a:latin typeface="Times New Roman"/>
              </a:rPr>
              <a:t>V= Vм ·n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11872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666600"/>
                </a:solidFill>
                <a:uFillTx/>
                <a:latin typeface="Garamond"/>
              </a:rPr>
              <a:t>Молярный объём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"/>
          <p:cNvSpPr/>
          <p:nvPr/>
        </p:nvSpPr>
        <p:spPr>
          <a:xfrm rot="19740000">
            <a:off x="0" y="1484280"/>
            <a:ext cx="3708360" cy="2521080"/>
          </a:xfrm>
          <a:prstGeom prst="irregularSeal2">
            <a:avLst/>
          </a:prstGeom>
          <a:solidFill>
            <a:srgbClr val="99cc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ДЛЯ ГАЗОВ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666600"/>
                </a:solidFill>
                <a:uFillTx/>
                <a:latin typeface="Times New Roman"/>
              </a:rPr>
              <a:t>Основные формулы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195280" y="1483920"/>
            <a:ext cx="4537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ru-RU" sz="5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6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i="1" lang="nl-NL" sz="6000" spc="-1" strike="noStrike">
                <a:solidFill>
                  <a:srgbClr val="ff0000"/>
                </a:solidFill>
                <a:latin typeface="Times New Roman"/>
              </a:rPr>
              <a:t>n = </a:t>
            </a:r>
            <a:r>
              <a:rPr b="1" i="1" lang="ru-RU" sz="60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nl-NL" sz="6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i="1" lang="ru-RU" sz="6000" spc="-1" strike="noStrike">
                <a:solidFill>
                  <a:srgbClr val="ff0000"/>
                </a:solidFill>
                <a:latin typeface="Times New Roman"/>
              </a:rPr>
              <a:t>Vм</a:t>
            </a:r>
            <a:r>
              <a:rPr b="1" i="1" lang="nl-NL" sz="6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i="1" lang="ru-RU" sz="6000" spc="-1" strike="noStrike">
                <a:solidFill>
                  <a:srgbClr val="ff0000"/>
                </a:solidFill>
                <a:latin typeface="Times New Roman"/>
              </a:rPr>
              <a:t>Vм</a:t>
            </a:r>
            <a:r>
              <a:rPr b="1" i="1" lang="nl-NL" sz="60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ru-RU" sz="60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nl-NL" sz="6000" spc="-1" strike="noStrike">
                <a:solidFill>
                  <a:srgbClr val="ff0000"/>
                </a:solidFill>
                <a:latin typeface="Times New Roman"/>
              </a:rPr>
              <a:t>/n 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Times New Roman"/>
              </a:rPr>
              <a:t>V = m</a:t>
            </a:r>
            <a:r>
              <a:rPr b="1" i="1" lang="en-US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·</a:t>
            </a:r>
            <a:r>
              <a:rPr b="1" i="1" lang="ru-RU" sz="6000" spc="-1" strike="noStrike">
                <a:solidFill>
                  <a:srgbClr val="ff0000"/>
                </a:solidFill>
                <a:latin typeface="Times New Roman"/>
              </a:rPr>
              <a:t>Vм /M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666600"/>
                </a:solidFill>
                <a:uFillTx/>
                <a:latin typeface="Garamond"/>
              </a:rPr>
              <a:t>Подумай!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68360" y="1844640"/>
          <a:ext cx="8218440" cy="4303800"/>
        </p:xfrm>
        <a:graphic>
          <a:graphicData uri="http://schemas.openxmlformats.org/drawingml/2006/table">
            <a:tbl>
              <a:tblPr/>
              <a:tblGrid>
                <a:gridCol w="1511280"/>
                <a:gridCol w="1512720"/>
                <a:gridCol w="1079640"/>
                <a:gridCol w="936720"/>
                <a:gridCol w="1150920"/>
                <a:gridCol w="1152360"/>
                <a:gridCol w="874800"/>
              </a:tblGrid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у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, частиц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ам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/мо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м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/мо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</a:t>
                      </a:r>
                      <a:r>
                        <a:rPr b="1" i="1" lang="en-US" sz="32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4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1" i="1" lang="en-US" sz="32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·10</a:t>
                      </a:r>
                      <a:r>
                        <a:rPr b="1" i="1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2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l</a:t>
                      </a:r>
                      <a:r>
                        <a:rPr b="1" i="1" lang="en-US" sz="32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1" i="1" lang="en-US" sz="32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 rot="1404000">
            <a:off x="6300360" y="259920"/>
            <a:ext cx="2592360" cy="2521080"/>
          </a:xfrm>
          <a:prstGeom prst="irregularSeal2">
            <a:avLst/>
          </a:prstGeom>
          <a:solidFill>
            <a:srgbClr val="99cc00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Times New Roman"/>
              </a:rPr>
              <a:t>ДЛЯ ГАЗОВ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00"/>
                </a:solidFill>
                <a:latin typeface="Times New Roman"/>
              </a:rPr>
              <a:t>Закрепим</a:t>
            </a:r>
            <a:r>
              <a:rPr b="1" lang="en-US" sz="4400" spc="-1" strike="noStrike">
                <a:solidFill>
                  <a:srgbClr val="666600"/>
                </a:solidFill>
                <a:latin typeface="Garamond"/>
              </a:rPr>
              <a:t>!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lnSpc>
                <a:spcPct val="80000"/>
              </a:lnSpc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то характеризует количество вещества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80000"/>
              </a:lnSpc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то является единицей измерения количества вещества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80000"/>
              </a:lnSpc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то такое моль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80000"/>
              </a:lnSpc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сколько же структурных единиц содержится в  1 моле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80000"/>
              </a:lnSpc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ерез какие величины  можно определить количество вещества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80000"/>
              </a:lnSpc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то такое молярная масса, как она обозначается и какие единицы измерения, с чем численно совпадает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80000"/>
              </a:lnSpc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то такое молярный объем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Задача № 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Определите массу кислорода количеством вещества 3,6 мол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Задача № 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Определите массу одной молекулы вод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Задача № 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Вычислите число молекул, содержащихся в углекислом газе массой 11 г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Задача № 4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Определите объем водяного пара, масса которого 180 г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Задача № 5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Найти число молекул в 5, 6 литрах  кислород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666600"/>
                </a:solidFill>
                <a:uFillTx/>
                <a:latin typeface="Garamond"/>
              </a:rPr>
              <a:t>Задач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804000" y="189000"/>
            <a:ext cx="147636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23640" y="1989000"/>
            <a:ext cx="806436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Monotype Corsiva"/>
              </a:rPr>
              <a:t>     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Monotype Corsiva"/>
              </a:rPr>
              <a:t>Расскажу сегодня, что ли,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Monotype Corsiva"/>
              </a:rPr>
              <a:t>                     О зловредной роли моли.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Monotype Corsiva"/>
              </a:rPr>
              <a:t>                     Моль съедает шерсть и мех – 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Monotype Corsiva"/>
              </a:rPr>
              <a:t>                     Просто паника у всех….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Monotype Corsiva"/>
              </a:rPr>
              <a:t>                     Ну а в химии – изволь!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Monotype Corsiva"/>
              </a:rPr>
              <a:t>                     Есть другое слово “моль”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Monotype Corsiva"/>
              </a:rPr>
              <a:t>                     Прост, как небо и трава, 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Monotype Corsiva"/>
              </a:rPr>
              <a:t>                     Моль любого вещества.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Monotype Corsiva"/>
              </a:rPr>
              <a:t>                     Но трудна его дорога: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Monotype Corsiva"/>
              </a:rPr>
              <a:t>                     В моле так частичек много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084720" y="404640"/>
            <a:ext cx="1866960" cy="17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115640" y="2327400"/>
            <a:ext cx="554364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§ 17, упр. 7—10 (с. 47)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666600"/>
                </a:solidFill>
                <a:uFillTx/>
                <a:latin typeface="Garamond"/>
              </a:rPr>
              <a:t>Домашнее задание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076720" y="3357720"/>
            <a:ext cx="26942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00"/>
                </a:solidFill>
                <a:latin typeface="Times New Roman"/>
              </a:rPr>
              <a:t>Основные </a:t>
            </a:r>
            <a:br>
              <a:rPr sz="4400"/>
            </a:br>
            <a:r>
              <a:rPr b="1" lang="en-US" sz="4400" spc="-1" strike="noStrike">
                <a:solidFill>
                  <a:srgbClr val="666600"/>
                </a:solidFill>
                <a:latin typeface="Times New Roman"/>
              </a:rPr>
              <a:t>единицы измерения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124000" y="1916280"/>
            <a:ext cx="5256360" cy="2865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250920" y="5081400"/>
            <a:ext cx="83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ри покупке сахара мы определяем его ___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ри помощи весо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ользуясь единицами измерения -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00"/>
                </a:solidFill>
                <a:latin typeface="Times New Roman"/>
              </a:rPr>
              <a:t>Основные </a:t>
            </a:r>
            <a:br>
              <a:rPr sz="4400"/>
            </a:br>
            <a:r>
              <a:rPr b="1" lang="en-US" sz="4400" spc="-1" strike="noStrike">
                <a:solidFill>
                  <a:srgbClr val="666600"/>
                </a:solidFill>
                <a:latin typeface="Times New Roman"/>
              </a:rPr>
              <a:t>единицы измер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54040" y="1647720"/>
            <a:ext cx="5650200" cy="3103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"/>
          <p:cNvSpPr/>
          <p:nvPr/>
        </p:nvSpPr>
        <p:spPr>
          <a:xfrm>
            <a:off x="1557720" y="4932360"/>
            <a:ext cx="6362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ри покупке разливного моло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мы определяем его 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ри помощи мерной посуды, пользуя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единицами измерения ______</a:t>
            </a:r>
            <a:r>
              <a:rPr b="1" lang="en-US" sz="2800" spc="-1" strike="noStrike">
                <a:solidFill>
                  <a:srgbClr val="cc9900"/>
                </a:solidFill>
                <a:latin typeface="Times New Roman"/>
              </a:rPr>
              <a:t> . 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55640" y="2203920"/>
            <a:ext cx="7993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Восьмиклассница Света зашла в магази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и попросила продавщицу продать ей  10  молей поваренной сол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Что ответила Свете продавщица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663720" y="307800"/>
            <a:ext cx="1916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666600"/>
                </a:solidFill>
                <a:uFillTx/>
                <a:latin typeface="Times New Roman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332000" y="4508640"/>
            <a:ext cx="1752480" cy="18921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804000" y="189000"/>
            <a:ext cx="147636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666600"/>
                </a:solidFill>
                <a:uFillTx/>
                <a:latin typeface="Times New Roman"/>
              </a:rPr>
              <a:t>Количество веществ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0000"/>
                </a:solidFill>
                <a:latin typeface="Times New Roman"/>
              </a:rPr>
              <a:t>v (ню)</a:t>
            </a:r>
            <a:r>
              <a:rPr b="1" i="1" lang="ru-RU" sz="4800" spc="-1" strike="noStrike">
                <a:solidFill>
                  <a:srgbClr val="ff0000"/>
                </a:solidFill>
                <a:latin typeface="Times New Roman"/>
              </a:rPr>
              <a:t> или </a:t>
            </a:r>
            <a:r>
              <a:rPr b="1" i="1" lang="ru-RU" sz="66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ru-RU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6600" spc="-1" strike="noStrike">
                <a:solidFill>
                  <a:srgbClr val="ff0000"/>
                </a:solidFill>
                <a:latin typeface="Times New Roman"/>
              </a:rPr>
              <a:t>(эн)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1" i="1" lang="ru-RU" sz="66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]</a:t>
            </a:r>
            <a:r>
              <a:rPr b="0" i="1" lang="ru-RU" sz="6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6600" spc="-1" strike="noStrike">
                <a:solidFill>
                  <a:srgbClr val="ff0000"/>
                </a:solidFill>
                <a:latin typeface="Times New Roman"/>
              </a:rPr>
              <a:t>- моль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666600"/>
                </a:solidFill>
                <a:uFillTx/>
                <a:latin typeface="Times New Roman"/>
              </a:rPr>
              <a:t>Число Авогадро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66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nl-NL" sz="6600" spc="-1" strike="noStrike" baseline="-25000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ru-RU" sz="6600" spc="-1" strike="noStrike">
                <a:solidFill>
                  <a:srgbClr val="ff0000"/>
                </a:solidFill>
                <a:latin typeface="Times New Roman"/>
              </a:rPr>
              <a:t>= 6,02 </a:t>
            </a:r>
            <a:r>
              <a:rPr b="1" lang="en-US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·</a:t>
            </a:r>
            <a:r>
              <a:rPr b="1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10 </a:t>
            </a:r>
            <a:r>
              <a:rPr b="1" lang="ru-RU" sz="66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3 </a:t>
            </a:r>
            <a:r>
              <a:rPr b="1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астиц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24000" y="1599840"/>
            <a:ext cx="8820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Моль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- количество вещества, в котором содержитс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6,02 *10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23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молекул, атомов  или  ионов, 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т.е. структурных единиц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00"/>
                </a:solidFill>
                <a:latin typeface="Times New Roman"/>
              </a:rPr>
              <a:t>Цилиндры </a:t>
            </a:r>
            <a:br>
              <a:rPr sz="4400"/>
            </a:br>
            <a:r>
              <a:rPr b="1" lang="en-US" sz="4400" spc="-1" strike="noStrike">
                <a:solidFill>
                  <a:srgbClr val="666600"/>
                </a:solidFill>
                <a:latin typeface="Times New Roman"/>
              </a:rPr>
              <a:t>с веществами в 1моль</a:t>
            </a: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9" name="img4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7667640" cy="3203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4T09:28:05Z</dcterms:created>
  <dc:creator>User</dc:creator>
  <dc:description/>
  <dc:language>en-US</dc:language>
  <cp:lastModifiedBy>User</cp:lastModifiedBy>
  <dcterms:modified xsi:type="dcterms:W3CDTF">2009-07-25T02:39:32Z</dcterms:modified>
  <cp:revision>12</cp:revision>
  <dc:subject/>
  <dc:title>Слайд 1</dc:title>
</cp:coreProperties>
</file>